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5.wmf" ContentType="image/x-wmf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0096-8582-4D6D-A14C-653BF74B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381D-2FA6-4FE6-AECA-A573CDA6A2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1B7B-134D-4553-9A4D-18BDD6650D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1DF0-A66E-4C45-8F9E-C07A02C5BA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C28D-A977-4AAE-A189-95135516CB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2620-46C3-4B5D-BC9A-0FD4D3AA2D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D8F-75CA-4699-81A6-57E92A0E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0C7-8EA2-440C-8F2B-8C6F4187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5A4-086C-4C0C-A092-09BA2998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D72-CA80-4281-8177-7AFC2665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F13B-6E16-472B-B66D-79C317DC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DFE5-7D4B-4EAB-B7AB-B485D346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E646-110A-4561-B139-323D22B5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F256-F6A5-4E04-87D4-4419B336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25B5-547B-45CC-8AD7-4CA0F164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DA9A-3145-45B2-B5B1-A2E8CA60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EE25-15D6-4A78-B0CB-AD37C24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068-7319-44A9-BC74-35BA8ED8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C532-F51C-4FAB-B7FA-8C9332E1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B62D-7BA1-48F5-83EE-61CE6E09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E685-ECD9-42F2-920D-EB039790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F237-B8A5-4FC3-8329-B6707B8D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EC4B-2D25-4DAD-8BA8-849E9A9A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BA9-B538-4821-980F-E6005086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324-1E4D-49F3-BDFB-45716D3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31D-5F85-48F9-8C8B-A32D7664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B70-BC7F-4CD8-93FE-72F58C50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6B5-1DB1-4AAC-8F52-07FF5C8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D02-67AB-457B-83CE-C4561468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D55-09D9-449A-A330-65BA71D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5AEF-85E6-4775-AC27-2679F011F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570E-822C-4393-A903-11C2944A7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743200"/>
            <a:ext cx="6400800" cy="220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On your marks, get set, READ!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 Ha Ha (get it)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Music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0" name="Music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Owner\Local Settings\Temporary Internet Files\Content.IE5\0T2RG522\MMAG00299_0000[1].gif"/>
          <p:cNvPicPr/>
          <p:nvPr/>
        </p:nvPicPr>
        <p:blipFill>
          <a:blip r:embed="rId3"/>
          <a:stretch/>
        </p:blipFill>
        <p:spPr>
          <a:xfrm>
            <a:off x="4495680" y="190440"/>
            <a:ext cx="3353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9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29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297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Comic Sans MS"/>
              </a:rPr>
              <a:t>Our Purpose!!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Our purpose is to get every student at   HHS to read one </a:t>
            </a:r>
            <a:r>
              <a:rPr b="1" lang="en-US" sz="6000" spc="-1" strike="noStrike">
                <a:solidFill>
                  <a:srgbClr val="ffb800"/>
                </a:solidFill>
                <a:latin typeface="Comic Sans MS"/>
              </a:rPr>
              <a:t>boo</a:t>
            </a:r>
            <a:r>
              <a:rPr b="0" lang="en-US" sz="6000" spc="-1" strike="noStrike">
                <a:solidFill>
                  <a:srgbClr val="ffb8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a month. c’mon think of it as a sport for your eyes!!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8" descr="http://www.ocpl.lib.ny.us/website/teens/images/teenreads/teens_reading.jpg"/>
          <p:cNvPicPr/>
          <p:nvPr/>
        </p:nvPicPr>
        <p:blipFill>
          <a:blip r:embed="rId1"/>
          <a:stretch/>
        </p:blipFill>
        <p:spPr>
          <a:xfrm>
            <a:off x="2971800" y="4419720"/>
            <a:ext cx="26668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ts Make It Happen but how?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1. have a celebrity or organization come to school and motivate the students to r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2. Give students an opportunity to choose their own books so we should have a book exchange students will swap books with one another by the end of the month they’ll discuss their likes and dislikes of the book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3. have a read a book make movie clu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4. teachers can give extra credit  for every book  each of their  students read a month (prove must be shown)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5.lets have a book race the one who ever can read the most books in a month wins a big priz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1" descr="C:\Documents and Settings\Owner\Local Settings\Temporary Internet Files\Content.IE5\0T2RG522\MMj02836790000[1].gif"/>
          <p:cNvPicPr/>
          <p:nvPr/>
        </p:nvPicPr>
        <p:blipFill>
          <a:blip r:embed="rId1"/>
          <a:stretch/>
        </p:blipFill>
        <p:spPr>
          <a:xfrm>
            <a:off x="3657600" y="5181480"/>
            <a:ext cx="4648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6"/>
                </a:solidFill>
                <a:latin typeface="Comic Sans MS"/>
              </a:rPr>
              <a:t>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d466"/>
                </a:solidFill>
                <a:latin typeface="Comic Sans MS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19051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Make announcements about it every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Make posters and put them around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et up a fun assembly in auditori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pass out brochures during l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make calls home to notify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" descr="C:\Documents and Settings\Owner\Local Settings\Temporary Internet Files\Content.IE5\1S7KSB44\MCBD08317_0000[1].wmf"/>
          <p:cNvPicPr/>
          <p:nvPr/>
        </p:nvPicPr>
        <p:blipFill>
          <a:blip r:embed="rId1"/>
          <a:stretch/>
        </p:blipFill>
        <p:spPr>
          <a:xfrm>
            <a:off x="0" y="0"/>
            <a:ext cx="1371600" cy="120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:\Documents and Settings\Owner\Local Settings\Temporary Internet Files\Content.IE5\1S7KSB44\MCBD08317_0000[1].wmf"/>
          <p:cNvPicPr/>
          <p:nvPr/>
        </p:nvPicPr>
        <p:blipFill>
          <a:blip r:embed="rId2"/>
          <a:stretch/>
        </p:blipFill>
        <p:spPr>
          <a:xfrm>
            <a:off x="7086600" y="5648400"/>
            <a:ext cx="13716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6cfa"/>
                </a:solidFill>
                <a:latin typeface="Comic Sans MS"/>
              </a:rPr>
              <a:t>How do we know if our </a:t>
            </a:r>
            <a:r>
              <a:rPr b="0" lang="en-US" sz="4400" spc="-1" strike="noStrike">
                <a:solidFill>
                  <a:srgbClr val="ffd466"/>
                </a:solidFill>
                <a:latin typeface="Comic Sans MS"/>
              </a:rPr>
              <a:t>goal was accomplish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6c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6cfa"/>
                </a:solidFill>
                <a:latin typeface="Comic Sans MS"/>
              </a:rPr>
              <a:t>compare the test result of the gateway and end of course exams from last year with this y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66c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6cfa"/>
                </a:solidFill>
                <a:latin typeface="Comic Sans MS"/>
              </a:rPr>
              <a:t>Give out a parent/student surve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http://wakecounty.files.wordpress.com/2007/10/teens-read.jpg"/>
          <p:cNvPicPr/>
          <p:nvPr/>
        </p:nvPicPr>
        <p:blipFill>
          <a:blip r:embed="rId1"/>
          <a:stretch/>
        </p:blipFill>
        <p:spPr>
          <a:xfrm>
            <a:off x="2133720" y="4191120"/>
            <a:ext cx="5252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34:09Z</dcterms:created>
  <dc:creator>Student</dc:creator>
  <dc:description/>
  <dc:language>en-US</dc:language>
  <cp:lastModifiedBy>aselby</cp:lastModifiedBy>
  <dcterms:modified xsi:type="dcterms:W3CDTF">2008-10-09T14:24:22Z</dcterms:modified>
  <cp:revision>21</cp:revision>
  <dc:subject/>
  <dc:title>Slide 1</dc:title>
</cp:coreProperties>
</file>